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82D-F22E-4A82-8C69-D91E1C4D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93C-B201-45CE-BAE1-1347CCE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063-8DD3-4B65-80D3-2CEA262B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F25-BA44-4AE1-8EF9-B5B3C5F0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FFD2-1A71-4636-AB1E-16BEB266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2716-99E2-432D-9970-1F31311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273D-F1DD-44E9-8F3B-A9D9C7A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3CAC-B65E-4082-9487-62D71F1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75E7-0110-4381-876B-B0B37A6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48E9-5920-4DC6-BD09-5D53E159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31F8-3EEA-44C5-9B6A-F07957A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AE1-EB1C-43CE-BA14-8B617F1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8186-73CE-4D51-BDD7-1200452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B052-9F57-4CFC-8E4F-841735E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75D4-4DEE-45F1-A51B-BB07F52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0717-A0EA-479A-A6AC-047B5253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7CC4-3755-4C58-BEA8-7AF6F21E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43B-6321-43E5-BA17-60357E3C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C97-0976-4978-A300-68ED3368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F43-29C7-4C07-B42D-E97682F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EE1-792B-44A3-970F-B76B61A6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625-AE8E-4B6B-967E-67E5328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64C-6B60-40A9-8FDE-C82CAE4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26D-2A85-4AF5-BD05-1BCA6FD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A4DB-122D-4411-9095-6E9D249CA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502-FF16-492E-820E-887EEFA8D6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udah Alone -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Study of Jeremia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7, Lesson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ok of Jerem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142-1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49F6-8BB0-4154-B8B0-A2F80D233BBA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Setting For Jeremiah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ee map on page 18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nations struggling for world domination – Assyria, Egypt and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strong king of Assyria died around 633 B.C. during Josiah’s re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lonians and Medes destroyed Nineveh (Assyria) around 61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bopolassar, a Chaldean prince, rebelled and established Babylon as a world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, Babylon emerged victorious and swept down on Judah in 605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AB9-B149-4D50-A1AF-5CA815DEEE6B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het Jeremi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iest, son of Hilkiah; of the priestly city of Anathoth (a few miles north of Jerusa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prophesying during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Josiah’s reign to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40 years in Judah and spanned the reigns of five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10 more years in Egypt to a rebellious rem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with Habakkuk and Zephan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7D7-5F63-4399-9AE9-6220E0CF57DE}" type="slidenum">
              <a:t>3</a:t>
            </a:fld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ot out, to pull down, to destroy, to throw down, to build, to plant” (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clare irreversible judgment against the nation of Judah and other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mind them of thei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g repentance - knowing most would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phesy that Babylon will war agains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mise a return of the remnant and a new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F4E-B2F6-4ACD-9DF4-CF92CD19BC93}" type="slidenum">
              <a:t>4</a:t>
            </a:fld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C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nctified him before he was 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young - not prepared for the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touched his mouth – provided the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 used to show him the spiritual messages for the kings and for the people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promised protection from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F5C-E445-49F1-B6F9-91D695F95906}" type="slidenum">
              <a:t>5</a:t>
            </a:fld>
          </a:p>
        </p:txBody>
      </p: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ation of Judah and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forsook God, as a bride her husb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:1-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’s conduct worse than Israel’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:6-4: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t of overwhelming punishment if Judah does not rep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:3-6: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spoke to the worshipers at the temple – the temple is not a good luck char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7:1-10: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CE1-7EEE-4CD4-A551-B260D0E5F37E}" type="slidenum">
              <a:t>6</a:t>
            </a:fld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ation of Judah and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spiracy against God and Jeremia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rred girdle (or, dirty bel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ught and a prayer for mercy; God said “No” (14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commanded not to marr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6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C7C-34D2-4582-A059-2C0206149438}" type="slidenum">
              <a:t>7</a:t>
            </a:fld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ation of Judah and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tter’s vess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oken vessel; Pashhur’s rea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0E4-8320-457F-B42B-FFAE6EA41F02}" type="slidenum">
              <a:t>8</a:t>
            </a:fld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st of Jeremi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t of Jeremiah will be dealt with in its historical context, i.e., when subjects occur in our future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cus of these less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ing 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exhorts Judah to accept punishment to avoid needless suffering and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rebuked, rejected, and persecuted for his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onsidered him a tra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preached rest, deliverance and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100-F085-4458-BAA4-143ADA5B9E4F}" type="slidenum">
              <a:t>9</a:t>
            </a:fld>
          </a:p>
        </p:txBody>
      </p:sp>
    </p:spTree>
  </p:cSld>
  <p:transition>
    <p:zoom dir="in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7:28:16Z</dcterms:created>
  <dc:creator>Frank D Vines</dc:creator>
  <dc:description/>
  <dc:language>en-US</dc:language>
  <cp:lastModifiedBy>Frank D Vines</cp:lastModifiedBy>
  <dcterms:modified xsi:type="dcterms:W3CDTF">2006-03-05T14:47:55Z</dcterms:modified>
  <cp:revision>16</cp:revision>
  <dc:subject/>
  <dc:title>Slide 1</dc:title>
</cp:coreProperties>
</file>